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ACB-8F8E-41A9-9E7A-D46878E3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466-A69D-4BE2-AB23-C10EDAF5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1A6A8-D0C4-4F5F-9558-D3CFA4D4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C656B-77ED-436A-8A7B-ACE4BA20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7FBF3-2D49-4924-9A96-0E83D03A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9F174-0EBA-4E08-BEB7-37EAA4D3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14555-2FB1-4F8F-A6BA-B2451A9A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85A63-4607-4562-A87E-AB4E246F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0B0FF-C4AF-4A21-B3B4-D4C53432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4C4BD-DFAB-47BC-912A-F1C09C39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F3D72-EB39-48F1-B909-DE61FDFD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08522-3C33-42B8-979C-078524BB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C3D-294C-4A6C-B093-074D3A4F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67245-C7A2-4E95-B424-5249931E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099E8-F21D-4713-8CF9-427B7306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651AD-27E6-415F-8AEA-BD7C799E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37BF2-5DC0-4A6E-A438-4017AAA1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98567-7FEF-43A0-9EB1-1995310F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27E33-119D-4CFC-8ADF-BF2281B9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17EF2-494E-406B-A72C-EA231F2E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3987C-4EC6-417A-B8A9-32F68988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7C50C-B28D-4088-81D1-5A07DD5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2B4F3-240E-4CEA-B4E2-7A4758F9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692-F83E-4546-8682-45D6438A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F86AF-7CC4-4DA1-B6AB-7A46461D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1EFF23-EBD8-4876-BF32-C5F2579F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37BC93-680D-409C-B98F-E7491FA8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8B1251-B7D6-4FAB-B492-10A3E40C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0FB181-0282-4398-99B6-FB2C5252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97CC29-5727-4A9A-AC9E-99B34878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6D571D-357A-46AF-A57A-FE53750C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6F0F5A-25D4-45D5-BF4A-3C857FEF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F1D220-124A-4C3D-93D2-DC26906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BC1053-20E8-4CDD-A659-2F2ABC11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4DD7-4646-4FC3-9F2E-F6EA7C20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8ABBFE-9D42-48E7-A572-0968D1B5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01540E-B5C4-47F6-83A1-D3039D36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1F114A-5085-4115-8FAC-E5858F60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8CE60-8417-4FE4-9DDC-5CF7C308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23E25-14E8-4B73-A11C-6F332CA1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71567-4902-4EBA-9544-51154584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AE91E-C850-4CFF-AC08-80059704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04D0D-3C57-42BA-8E90-DAC735DC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1DA5F-802D-485C-92FF-2B6300F5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93DFB-6483-4371-91A4-F41A016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EB17-7661-43DA-BB21-C5C173AC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11B7A-E738-402A-8F50-09EB0DFE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266AE-69D5-4543-958E-6020D96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6648E-7C45-42CA-9F8B-CBC4C6FB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5712C-AE1F-49C9-97BD-5EF488DA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27201-1889-48F9-85EC-15EB7E60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AD6745-46C2-4E28-9513-91914DBD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850876-F3F3-4B57-AD9F-A505F24F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50E2D5-4546-4CDD-9061-5EDA34FF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DD13D3-B333-47E0-9562-0D35C0CF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4EF4CE-DBD3-4FF8-AD76-5012E6B5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6B5F-B8BE-47F3-95D2-D007CAAF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7EB0FF-BC5B-4BB0-AE36-3BCFC054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0D2D6B-BC2B-4EB1-9553-A1EFFC8C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5F69F0-E2BF-405A-8BF1-12B4A53B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EB75FD-EA2B-40C8-8230-3FD0381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9B53E2-FD18-451A-BCA2-415E18F0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A2D350-2965-4CEA-A748-0CBA1FBF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2D9D56-43D3-447D-8DE8-AB31EA23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FDB523-EC46-4792-A833-31ADE60F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13A628-1001-4BB7-8D31-A3B9D547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569F8F-3F51-4377-95E9-F19530F4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8058-3349-4B12-8F5A-631FBB02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8CC769-7060-48A1-81C9-4BF0F08A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00CF63-F523-4E37-B622-413E3395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F2D5AE-4BD0-4E4E-970C-F1B24D34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5A1DE1-93BF-40FA-98FB-44AAE7F6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2FABE1-8986-47AF-852C-6ACB314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148631-D09D-47FB-83EA-6B589515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872266-3D13-44AD-AE9F-3D9CF688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58108B-155B-4F0A-957B-F9FA9754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4D1C39-7273-4EF5-BECF-928566C9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040E5F-0334-4B11-8B86-3BCC5C3C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4681-A598-4170-B3DC-BFE647BC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5100B7-9814-4FB7-92C5-C9CA926A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348977-4D10-41B2-A999-7A0F4497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34D064-9282-45BF-84E3-C5D01CEB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809043-6BF0-42F0-9E8C-536A8ACC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C10744-2EED-4061-BFD5-B734AA2D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D1C165-1CB9-454A-9298-05C5C634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ACC077-F758-40C2-A017-8E5CCDE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E84040-F643-4C82-B49D-FA71B0E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08CE6E-75FF-4E02-8969-17FBD3F9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4AB750-70B1-4A5A-B576-782C8380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48DF-4A16-4559-9301-A2A5C863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135E6F-878E-4A28-82C0-4EE265F0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FC8F1A-4061-4234-88F3-63581EC2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2F9D76-D5B0-44EE-906A-B99BCFC0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7E0BA1-5014-42B7-AE36-A573AB20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DCD89F-7DCE-4074-A53D-85712D22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25D405-430C-4C72-931D-1803A635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C40854-EFDC-4B82-AA12-A972DDA7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C90E99-C46D-4C0F-BAC2-8DEC466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3ED416-2866-49AC-8563-44789D6B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CA9C6B-6D57-4034-87E4-70A86CEB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5D7D-A8FC-460F-B434-AB34F615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1AEC3F-072D-4B00-BD66-861D7A73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49A43E5-2540-411C-9087-B3543803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49BD8C-9A3A-4B84-A259-4769878B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03CFAB-9593-4056-837D-C6B58C97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0192E2-37A2-42E8-9EF1-E4B15914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B703AD2-3771-40DC-9C10-6DD53AA5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1CAB5E-4C1D-4F40-99A4-273FFB28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4DF68DB-C243-48F8-8CB8-4EAC674F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3727F1-174A-4507-A3AD-9F6ABAA8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5722865-B991-4C57-9436-400C7F66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7E6-FA5A-4F46-9962-A8C16814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C104-EE20-4589-A733-F075F424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75F63D-BD2C-4BA0-A3F5-8F3C64D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42D5EF0-296C-4CAF-903B-9A2D2821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48244B-470B-4A35-9F05-3C9FBABE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8AA0E5F-70E2-4408-ABBC-B384EC8E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35E008-4514-4281-A1A4-C8F3DFBD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1B506A-F22E-49EF-9DA2-A4FE54FD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12D91D-C584-4443-B1E5-F8DA953D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9548B6-F222-48DC-B197-EC2C37B5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80A786-CE0B-4E66-814E-F609622C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3AA958-7C73-4AB2-A4DA-53D7FD07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2C3D-9C5C-42F0-8ABD-93C6EE7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F49444-A9C9-47DF-91AC-B621A16F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E71EC71-CE10-45BF-9A80-89E2929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D2F72D-FB6D-4832-B79F-F5A3393F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0DABB98-B538-4703-A2B5-BEBDD8B8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ACD899-DC4D-430D-809D-1B3EB338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E2FFCD-A3A1-4B4E-965F-67A729AE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5ADC1E3-6C94-4556-8F22-ABB14E07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EA159F-ABB2-4C65-AF1D-7EFCF9B2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27C23D6-E94B-4CDF-9EF3-997D1211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2C0314-D6C1-4539-87AC-3562F2C6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A865-1CB7-46F2-8147-345B958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B2EE8B-F19A-47BB-A95E-7BE2BECE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B840202-87A0-4B84-975D-92513839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CE02A8-7717-46F9-AF45-E308737B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C2EF9C6-26DD-44B4-9977-CE955470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CBB762-A1A6-4315-8519-6D9A21E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8C09B67-9E56-468D-A337-D896C29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FC56A79-C185-47CB-9592-CEF8EA1F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032355-0064-422F-A3AC-E7820D3C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6320298-216F-4F91-A006-D29846E5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4FD956-53EA-4BB9-B7CD-557D7ED9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6D88-6328-450F-A0BD-0E659CBE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45344C-3CA5-4BC6-8050-E31EAF2E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AA7557-1080-4931-B923-329F787A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8630016-7582-470D-863D-E573BA8E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1A35D33-2168-464D-917B-D432ECC0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B5502B1-7C7D-4F67-B9B1-5264E4A0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2DAD38-63C2-440D-9849-E839CEB0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4E5D1CE-192E-440C-9845-98E5D580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1BA780-88B7-4D9F-9EF0-D6763043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D9449C-212D-4958-B0A8-6D522C6B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CC3D7D9-62DA-41CD-8421-5D58254A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1371-4FC6-4719-B988-E1424305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C18E62-7F78-4676-832C-AF92CA35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CD41-59B9-42D4-8D9B-C18B2117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DD49-6EB5-464C-A5E8-46CB64C5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04B0-5F35-4E49-801F-6CF338A5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FC0AD-8491-41F2-9A04-AB90DB26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85B4-0749-4F4A-8DD5-2559AA58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E00-D652-457A-B33B-379AFD1E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AEEF-F3AA-4B83-8A5A-82EFBD93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F707-680F-481D-9B6A-0734C05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3D51-56E0-407F-A43C-0F745324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610D-63FA-4691-A43A-5C8E92E3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3C42-FFD1-4283-B6C2-0C724222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369D2-F2BF-4B48-8058-E8A22315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5DFF-EBAA-4030-BFE2-A70EEC20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84518-41C2-47C7-A3EF-D577DD7E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C17A-B69C-4D7C-A605-D2CC1C71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9FFE-D2B2-4986-8349-1DDB80EC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B91-40B5-4D2C-9B20-1A7D0B56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4612-7BD4-47DF-8697-D50B74F0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AF3D-BA78-4354-9E40-8C00FD94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87568-A5FC-4631-9C95-37BBFB82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6F2D3-AA67-409F-9F6E-7DD6D35A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0854-F69E-44C0-B2A7-A18B8913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0EAC0-C24F-4B3F-AE1F-7575B34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985A-4107-4027-92A9-2336575E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935C7-827B-4299-99B7-297E8A3F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553E-6DFC-4295-A73F-7EE54B29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014DD-751F-41FC-8502-2F7E78E3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807-EEE4-4210-8346-817C3A2C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43787-D94F-4CEA-A6CD-6EED2F49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62525-9AD3-45E3-8800-C83CF3A8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C42C-2124-4EFE-ABCD-C1824FB7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311EE-54AD-4A08-8633-AAD34C02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4758-3B9D-49F7-96A2-D7738887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6ADF6-D4CC-41D9-881D-05F84DE2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4398-B0B9-4B79-956F-99A47C4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20DF9-1885-4CEF-B58B-126168A6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FC67-AFFE-4E11-A3D3-B3CEA2F8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FF0E8-F164-45F8-991C-83636580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4EF-EBF6-4B3B-958E-815636B6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4E4FB-A8A3-4DE7-8757-31D0F40D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4A2C0-4B45-4946-A5CC-461A4BA9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9B312-61EE-431D-959E-E8A6F17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7805A-7C84-4523-9266-31E87847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3E493-FE99-4B89-A8E9-2DB1B1FE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38B8F-6EBF-4F41-819F-7084D584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C300-D48A-4638-BA17-A6167858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E91C4-7414-4A34-A1AA-BD03C45F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DC48E-8A02-44C7-8990-E096E0D0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77D0-BED0-4A52-88FF-62C33D7C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4BD-C480-4924-8B92-DB024CE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70D0-2796-4691-8A5F-6E6AB4C1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8AFCB-171C-465A-A3B6-58D0E16D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6031A-B017-4A9D-8359-2E9BCD90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6C4536-5ED0-459D-B0E9-8CCE6DF5973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88606B-72E8-4413-904F-B165A72132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D75CA1-49FE-47A2-A317-48675886A06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598F9-7FAB-4049-ADB5-0F5B3948059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37BF17-B28F-40BB-A8BA-B2ED02317F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02903A-2266-4C4A-8493-EE95A3F47F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4985DE-980A-4E7E-A3F1-2521E63D8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964-3E76-4308-99B6-CDAC5EC2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35617B-772F-4B69-AAFA-C2DE867C599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AA9774-8DC6-442F-9FC6-C09F1B2F6AB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A1371F-8959-4BCE-A1C1-B4A24519734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A21E9E-AA4C-4125-BF50-EAAA4680BAB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E5DFFA-07B3-41AB-B671-72C86C88152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4F441D-2FF9-4A69-B8A6-DBFEA188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206F3C-583C-403B-906C-4BA96050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B35320-9B2A-4332-97C2-1D7F0D43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2BC335-A95A-427D-9019-E839E554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DDBC47-A74B-4B63-A5E0-504C027F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FC2-4C71-48F7-B6E2-40863D8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E75D5-6137-46E4-A4E4-447C6B3F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D929F4-7187-40DC-836B-598C597B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3DFCFA-15FA-4FE2-ADE8-C2CDFC9F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06E7F0-A75D-42F8-8A2C-2BC2151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4A97CE-D7DD-45E3-8DBD-484CA154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9907AC-77EE-40E0-8A2C-E65043F8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9B826-7F8E-4272-A658-A52B25DF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E5EFA-3E23-4918-A90D-D30BA837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CF122-1C80-4B37-9F63-AEB25576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5C083-E67A-49C4-87BE-541D322E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58D90-75EF-4E5A-A681-3EAEE0044CFF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49BDF-87F7-43FF-BA3C-1CDBCC0AA80A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F6F0B-14EB-4F20-AB69-5A05A6360EFA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1AD8C-3FE5-40B6-8F4A-1A3E6E0C3F7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0C916-9EDC-4227-B03E-515C8C4C5BD0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BCBC2-E431-4412-949D-9773D9BEDAB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94CA5-C5B4-49BC-8824-995EC379A6F1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B9ACA-A0A2-40AB-B997-081399B4FCFC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C6D75-4D0E-487E-861B-820C7913D39A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78BFB-F5B5-4690-A3CA-B78184F6FE6F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E2DC6-6962-44D6-954D-0D834F8D0CE2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2BF67-D6E4-4353-9C51-97C16F96B36A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CA610-80BD-4F38-BF43-611E7BBA0894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3355A-6E8E-4A32-BD2B-ED6CB3D54E1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43A1C-E67D-465F-B441-4E24A72F2157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928B4-D2C6-4BE3-AD69-873CD657F1C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FFFDA-AE44-4523-BE16-9041A5EE25F5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D30E9-F7FC-437E-89FF-D20CC3355AE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4C3FD-53DD-4E42-B735-C260B3B9330B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CD403-67BA-4AF5-837A-3FACD178E2AF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99A04-BEB2-4A79-B7B6-8900F41BBD82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E8369-F494-4330-B6A8-E4856637AB5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5E17D-A75C-4754-B164-B55E5C4CCCBF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FDD78-4024-454C-BF32-EE9A12F08111}" type="slidenum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56A7A-E4EC-490F-B3A5-F77E78C40394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75FB6-7FB2-4678-BB8E-0B117BA2EAD3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42101-4528-4DB9-94B9-6EC127C1E09E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FFA1D-91C3-408F-AB7F-A2A7C8D0E4F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71265-B3BC-4CC0-BA2F-A120651A6F7E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3B411-BF22-4F9F-A36D-5DCE383764FD}" type="slidenum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DA6A9-41BC-45C1-8604-C5D2787CE23E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16C04-7B7B-4CE5-9464-F28D4706027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74D4F-6D3F-443D-84FB-B36D33B07883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3CF26-4609-4D0D-955F-0492081FD7AF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720DA-58F4-4C91-816D-DA884D00D24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060CB-BD56-41F8-8213-90DCCB3E985A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698FD-6C08-4711-B056-D1C2BDA4FDA7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D89D6-9AF6-450E-93A2-FDDAB7F52C16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D1E58-4B56-427E-AABE-0E78F8B5075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Bellringer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464646"/>
                </a:solidFill>
                <a:latin typeface="Century Gothic"/>
              </a:rPr>
              <a:t>What is the function of a nucleus?</a:t>
            </a:r>
            <a:endParaRPr b="0" lang="en-US" sz="53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Organisms with Prokaryotic Cells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464646"/>
                </a:solidFill>
                <a:uFillTx/>
                <a:latin typeface="Century Gothic"/>
              </a:rPr>
              <a:t>Bacteria are prokaryotic cells. Bacteria are single-celled organisms.</a:t>
            </a:r>
            <a:endParaRPr b="0" lang="en-US" sz="5600" spc="-1" strike="noStrike">
              <a:solidFill>
                <a:srgbClr val="464646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Let’s Practice…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56840" y="1616040"/>
            <a:ext cx="714204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Century Gothic"/>
              </a:rPr>
              <a:t>What kind of organisms have prokaryotic cells?</a:t>
            </a:r>
            <a:endParaRPr b="0" lang="en-US" sz="5400" spc="-1" strike="noStrike">
              <a:solidFill>
                <a:srgbClr val="464646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Century Gothic"/>
              </a:rPr>
              <a:t>How many cells do bacteria have?</a:t>
            </a:r>
            <a:endParaRPr b="0" lang="en-US" sz="5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Let’s Practice..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Century Gothic"/>
              </a:rPr>
              <a:t>What kind of cells would a lion have? </a:t>
            </a:r>
            <a:endParaRPr b="0" lang="en-US" sz="43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1"/>
          <a:stretch/>
        </p:blipFill>
        <p:spPr>
          <a:xfrm>
            <a:off x="5689440" y="441972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1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2209320"/>
            <a:ext cx="77198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Do trees have eukaryotic or prokaryotic cells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2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7200" y="2209320"/>
            <a:ext cx="77198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Do mushrooms have eukaryotic or prokaryotic cells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3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2209320"/>
            <a:ext cx="77198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Do E. Coli bacteria have eukaryotic or prokaryotic cells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4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57200" y="2209320"/>
            <a:ext cx="77198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Do lizards have eukaryotic or prokaryotic cells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5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6840" y="1815840"/>
            <a:ext cx="804708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64646"/>
                </a:solidFill>
                <a:latin typeface="Century Gothic"/>
              </a:rPr>
              <a:t>Salmonella is a very simple organism that can be found in raw eggs. It is a unicellular organism and has no nucleus.  How should salmonella be classified (prokaryotic or eukaryotic)?</a:t>
            </a:r>
            <a:endParaRPr b="0" lang="en-US" sz="46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6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6840" y="1601640"/>
            <a:ext cx="8047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Century Gothic"/>
              </a:rPr>
              <a:t>A parrot is a complex organism that lives in the tropical rainforest. It is a multi-cellular organism whose cells perform many processes.  How should a parrot’s cells be classified (prokaryotic or eukaryotic)?</a:t>
            </a:r>
            <a:endParaRPr b="0" lang="en-US" sz="43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7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6840" y="1677960"/>
            <a:ext cx="8047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Which of the cells below could belong to a frog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1066680" y="4021200"/>
            <a:ext cx="3186360" cy="194004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4" descr=""/>
          <p:cNvPicPr/>
          <p:nvPr/>
        </p:nvPicPr>
        <p:blipFill>
          <a:blip r:embed="rId2"/>
          <a:stretch/>
        </p:blipFill>
        <p:spPr>
          <a:xfrm>
            <a:off x="5629320" y="3676680"/>
            <a:ext cx="3085920" cy="2641680"/>
          </a:xfrm>
          <a:prstGeom prst="rect">
            <a:avLst/>
          </a:prstGeom>
          <a:ln w="0">
            <a:noFill/>
          </a:ln>
        </p:spPr>
      </p:pic>
      <p:sp>
        <p:nvSpPr>
          <p:cNvPr id="885" name="TextBox 5"/>
          <p:cNvSpPr/>
          <p:nvPr/>
        </p:nvSpPr>
        <p:spPr>
          <a:xfrm>
            <a:off x="765000" y="37908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5316480" y="3651120"/>
            <a:ext cx="6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Agenda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57200" y="14695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Anticipatory Set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Review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Input (organisms and cell types)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Guided Practice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Independent Practice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Closing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8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6840" y="1224000"/>
            <a:ext cx="8047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Which of the cells below could belong to salmonella bacteria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1066680" y="4021200"/>
            <a:ext cx="3186360" cy="194004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4" descr=""/>
          <p:cNvPicPr/>
          <p:nvPr/>
        </p:nvPicPr>
        <p:blipFill>
          <a:blip r:embed="rId2"/>
          <a:stretch/>
        </p:blipFill>
        <p:spPr>
          <a:xfrm>
            <a:off x="5629320" y="3676680"/>
            <a:ext cx="3085920" cy="2641680"/>
          </a:xfrm>
          <a:prstGeom prst="rect">
            <a:avLst/>
          </a:prstGeom>
          <a:ln w="0">
            <a:noFill/>
          </a:ln>
        </p:spPr>
      </p:pic>
      <p:sp>
        <p:nvSpPr>
          <p:cNvPr id="891" name="TextBox 5"/>
          <p:cNvSpPr/>
          <p:nvPr/>
        </p:nvSpPr>
        <p:spPr>
          <a:xfrm>
            <a:off x="765000" y="37908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6"/>
          <p:cNvSpPr/>
          <p:nvPr/>
        </p:nvSpPr>
        <p:spPr>
          <a:xfrm>
            <a:off x="5316480" y="3651120"/>
            <a:ext cx="6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85680"/>
            <a:ext cx="8163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2da2bf"/>
                </a:solidFill>
                <a:uFillTx/>
                <a:latin typeface="Century Gothic"/>
              </a:rPr>
              <a:t>3.3 Independent Practice</a:t>
            </a:r>
            <a:endParaRPr b="0" lang="en-US" sz="5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osing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 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31760" indent="-9144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c5698"/>
                </a:solidFill>
                <a:latin typeface="Century Gothic"/>
              </a:rPr>
              <a:t>What is a function?</a:t>
            </a:r>
            <a:endParaRPr b="0" lang="en-US" sz="4600" spc="-1" strike="noStrike">
              <a:solidFill>
                <a:srgbClr val="464646"/>
              </a:solidFill>
              <a:latin typeface="Century Gothic"/>
            </a:endParaRPr>
          </a:p>
          <a:p>
            <a:pPr marL="1031760" indent="-9144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c5698"/>
                </a:solidFill>
                <a:latin typeface="Century Gothic"/>
              </a:rPr>
              <a:t>What is the function of the nucleus?</a:t>
            </a:r>
            <a:endParaRPr b="0" lang="en-US" sz="4600" spc="-1" strike="noStrike">
              <a:solidFill>
                <a:srgbClr val="464646"/>
              </a:solidFill>
              <a:latin typeface="Century Gothic"/>
            </a:endParaRPr>
          </a:p>
          <a:p>
            <a:pPr marL="1031760" indent="-9144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c5698"/>
                </a:solidFill>
                <a:latin typeface="Century Gothic"/>
              </a:rPr>
              <a:t>What is DNA?</a:t>
            </a:r>
            <a:endParaRPr b="0" lang="en-US" sz="46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6840" y="1486080"/>
            <a:ext cx="77979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30640" indent="-43200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entury Gothic"/>
              </a:rPr>
              <a:t>What is the difference between the location of DNA in prokaryotes and in eukaryotes?</a:t>
            </a:r>
            <a:endParaRPr b="0" lang="en-US" sz="3800" spc="-1" strike="noStrike">
              <a:solidFill>
                <a:srgbClr val="464646"/>
              </a:solidFill>
              <a:latin typeface="Century Gothic"/>
            </a:endParaRPr>
          </a:p>
          <a:p>
            <a:pPr marL="530640" indent="-43200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entury Gothic"/>
              </a:rPr>
              <a:t>Does a nucleus have a nuclear envelope?</a:t>
            </a:r>
            <a:endParaRPr b="0" lang="en-US" sz="3800" spc="-1" strike="noStrike">
              <a:solidFill>
                <a:srgbClr val="464646"/>
              </a:solidFill>
              <a:latin typeface="Century Gothic"/>
            </a:endParaRPr>
          </a:p>
          <a:p>
            <a:pPr marL="530640" indent="-43200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entury Gothic"/>
              </a:rPr>
              <a:t>Does a nucleoid have a nuclear envelope?</a:t>
            </a:r>
            <a:endParaRPr b="0" lang="en-US" sz="38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1c5698"/>
                </a:solidFill>
                <a:latin typeface="Century Gothic"/>
              </a:rPr>
              <a:t>Why do we need DNA?</a:t>
            </a:r>
            <a:endParaRPr b="0" lang="en-US" sz="5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Century Gothic"/>
              </a:rPr>
              <a:t>What does it mean if things are similar?</a:t>
            </a:r>
            <a:endParaRPr b="0" lang="en-US" sz="48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How are animals, plants and fungi similar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How are all bacteria similar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Objective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Century Gothic"/>
              </a:rPr>
              <a:t>After today you will be able to classify organisms by their cell type.</a:t>
            </a:r>
            <a:endParaRPr b="0" lang="en-US" sz="4300" spc="-1" strike="noStrike">
              <a:solidFill>
                <a:srgbClr val="464646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Big Goal Connection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64646"/>
                </a:solidFill>
                <a:latin typeface="Century Gothic"/>
              </a:rPr>
              <a:t>80% Mastery – Quiz tomorrow</a:t>
            </a:r>
            <a:endParaRPr b="0" lang="en-US" sz="4700" spc="-1" strike="noStrike">
              <a:solidFill>
                <a:srgbClr val="464646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64646"/>
                </a:solidFill>
                <a:latin typeface="Century Gothic"/>
              </a:rPr>
              <a:t>Big Idea – Patterns, similarity, and diversity</a:t>
            </a:r>
            <a:endParaRPr b="0" lang="en-US" sz="4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64680" y="4406760"/>
            <a:ext cx="6946920" cy="171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2da2bf"/>
                </a:solidFill>
                <a:uFillTx/>
                <a:latin typeface="Century Gothic"/>
              </a:rPr>
              <a:t>3.3 Organisms and Cell Types</a:t>
            </a:r>
            <a:endParaRPr b="0" lang="en-US" sz="54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Eukaryotes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464646"/>
                </a:solidFill>
                <a:uFillTx/>
                <a:latin typeface="Century Gothic"/>
              </a:rPr>
              <a:t>Organisms with eukaryotic cells are called eukaryotes.</a:t>
            </a:r>
            <a:endParaRPr b="0" lang="en-US" sz="5500" spc="-1" strike="noStrike">
              <a:solidFill>
                <a:srgbClr val="464646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50" name="Picture 3" descr=""/>
          <p:cNvPicPr/>
          <p:nvPr/>
        </p:nvPicPr>
        <p:blipFill>
          <a:blip r:embed="rId1"/>
          <a:stretch/>
        </p:blipFill>
        <p:spPr>
          <a:xfrm>
            <a:off x="5457960" y="4192560"/>
            <a:ext cx="3492360" cy="23241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4" descr=""/>
          <p:cNvPicPr/>
          <p:nvPr/>
        </p:nvPicPr>
        <p:blipFill>
          <a:blip r:embed="rId2"/>
          <a:stretch/>
        </p:blipFill>
        <p:spPr>
          <a:xfrm>
            <a:off x="4572000" y="330120"/>
            <a:ext cx="2286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23480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Organisms </a:t>
            </a:r>
            <a:br>
              <a:rPr sz="3600"/>
            </a:b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with </a:t>
            </a:r>
            <a:br>
              <a:rPr sz="3600"/>
            </a:b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Eukaryotic Cells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2941200"/>
            <a:ext cx="79120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464646"/>
                </a:solidFill>
                <a:uFillTx/>
                <a:latin typeface="Century Gothic"/>
              </a:rPr>
              <a:t>Animals, plants, and fungi have eukaryotic cells. They can be single-celled or multi-cellular.</a:t>
            </a:r>
            <a:endParaRPr b="0" lang="en-US" sz="5600" spc="-1" strike="noStrike">
              <a:solidFill>
                <a:srgbClr val="464646"/>
              </a:solidFill>
              <a:latin typeface="Century Gothic"/>
            </a:endParaRPr>
          </a:p>
          <a:p>
            <a:pPr marL="219240" indent="-21924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rcRect l="0" t="0" r="0" b="22911"/>
          <a:stretch/>
        </p:blipFill>
        <p:spPr>
          <a:xfrm>
            <a:off x="5937120" y="0"/>
            <a:ext cx="3206880" cy="29671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"/>
          <p:cNvPicPr/>
          <p:nvPr/>
        </p:nvPicPr>
        <p:blipFill>
          <a:blip r:embed="rId2"/>
          <a:stretch/>
        </p:blipFill>
        <p:spPr>
          <a:xfrm>
            <a:off x="7940520" y="0"/>
            <a:ext cx="1203480" cy="11016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5" descr=""/>
          <p:cNvPicPr/>
          <p:nvPr/>
        </p:nvPicPr>
        <p:blipFill>
          <a:blip r:embed="rId3"/>
          <a:stretch/>
        </p:blipFill>
        <p:spPr>
          <a:xfrm>
            <a:off x="3666960" y="0"/>
            <a:ext cx="22701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Let’s Practice…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6840" y="1904760"/>
            <a:ext cx="7566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entury Gothic"/>
              </a:rPr>
              <a:t>What kind of organisms are eukaryotes?</a:t>
            </a:r>
            <a:endParaRPr b="0" lang="en-US" sz="4200" spc="-1" strike="noStrike">
              <a:solidFill>
                <a:srgbClr val="464646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entury Gothic"/>
              </a:rPr>
              <a:t>How many cells does a single-celled organism have?</a:t>
            </a:r>
            <a:endParaRPr b="0" lang="en-US" sz="4200" spc="-1" strike="noStrike">
              <a:solidFill>
                <a:srgbClr val="464646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entury Gothic"/>
              </a:rPr>
              <a:t>What is a multi-cellular organism?</a:t>
            </a:r>
            <a:endParaRPr b="0" lang="en-US" sz="4200" spc="-1" strike="noStrike">
              <a:solidFill>
                <a:srgbClr val="464646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Prokaryotes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 u="sng">
                <a:solidFill>
                  <a:srgbClr val="464646"/>
                </a:solidFill>
                <a:uFillTx/>
                <a:latin typeface="Century Gothic"/>
              </a:rPr>
              <a:t>Prokaryotic cells are called prokaryotes.</a:t>
            </a:r>
            <a:endParaRPr b="0" lang="en-US" sz="5100" spc="-1" strike="noStrike">
              <a:solidFill>
                <a:srgbClr val="464646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5764320" y="4280040"/>
            <a:ext cx="31496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3:07:06Z</dcterms:created>
  <dc:creator>Caroline Roth</dc:creator>
  <dc:description/>
  <dc:language>en-US</dc:language>
  <cp:lastModifiedBy>Caroline Roth</cp:lastModifiedBy>
  <dcterms:modified xsi:type="dcterms:W3CDTF">2010-10-14T19:11:24Z</dcterms:modified>
  <cp:revision>8</cp:revision>
  <dc:subject/>
  <dc:title>Bellringer</dc:title>
</cp:coreProperties>
</file>